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32A-26DC-4D15-9A0A-9641CADD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678-6F8E-4DAB-8257-1C3ADE1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8CB-91C0-4979-BD81-F589F486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56E-F514-471A-B7BF-495BC12C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AA6-9AC1-4780-9513-30CA961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CCE-899F-43C4-B42D-29D6C726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B40-CECC-414F-9E57-9BA92135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F70-5E45-4604-A6EC-0C8B8949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7B2-5538-4331-BB2A-9EFFE37C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0C4-D3B7-4DAD-A598-0AB153F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29F-7656-4602-8E01-D01962EA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1FC-A8BD-4F5E-8D67-54AAEDE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7DD2-11FF-4A34-B90D-EC5A5154B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Pre-Tes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55736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5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Poll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51480" y="2417760"/>
            <a:ext cx="426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05000"/>
            <a:ext cx="8820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insect live in different  environment. Some live in wet some live in d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557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6680" y="299736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ct eat different  food  because they are different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560" y="256536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005360"/>
            <a:ext cx="655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insect collect pollinators they are bees, wasp and butterf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ct collect pollinators because we need it for our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41:57Z</dcterms:created>
  <dc:creator>eileen.wu</dc:creator>
  <dc:description/>
  <dc:language>en-US</dc:language>
  <cp:lastModifiedBy>eileen.wu</cp:lastModifiedBy>
  <dcterms:modified xsi:type="dcterms:W3CDTF">2009-03-24T02:41:02Z</dcterms:modified>
  <cp:revision>2</cp:revision>
  <dc:subject/>
  <dc:title>Pre-Test</dc:title>
</cp:coreProperties>
</file>